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D404-AD95-427A-BE75-9F58CCEAA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8450-FA09-4E54-90CF-7FE0922A4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A6D7-9A2D-4273-8954-9D0D42062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A256-42CF-4324-83D1-A53F69EB3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78BB-F596-4C7C-A436-5D2AE584C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E269-9E01-48C0-B3E4-45D64A8CF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D45A-1ECF-431D-BD92-0FE037313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21C9-B1F2-4F69-9C7A-F34D12F85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F7B3-9666-434C-B537-23D56F1EE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A6C1-AFE8-4B95-B772-24FAAC68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FD6D-1142-4826-BA1F-C342BE13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0074-BAB3-4945-A9EF-1495A927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F8E82-0269-4BA8-95F0-CB00B144B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320" y="506520"/>
            <a:ext cx="8991360" cy="58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22826" t="0" r="0" b="17587"/>
          <a:stretch/>
        </p:blipFill>
        <p:spPr>
          <a:xfrm>
            <a:off x="152280" y="152280"/>
            <a:ext cx="8915400" cy="64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00:09:13Z</dcterms:created>
  <dc:creator>fx</dc:creator>
  <dc:description/>
  <dc:language>en-US</dc:language>
  <cp:lastModifiedBy>fx-Russell</cp:lastModifiedBy>
  <dcterms:modified xsi:type="dcterms:W3CDTF">2010-04-17T02:06:48Z</dcterms:modified>
  <cp:revision>11</cp:revision>
  <dc:subject/>
  <dc:title>PR2 Gripper Anodize Stripping Rework Procedure</dc:title>
</cp:coreProperties>
</file>